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988-5F5F-450D-8E44-02CB6C92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48A8-427D-4189-8483-B9B85B70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CA2-661C-47BE-B87F-EEB3FC1E3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2153-AB5B-4BFD-A53A-0F146B36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254-DA25-47EC-9D62-295A4C7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72C-EC42-485B-A111-79F5C4DB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F87A-176E-4733-A92F-D7FBC9DB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D52-8270-4B59-825C-66100A16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CE7-ABD4-4F84-9051-46D8A44D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B76F-9CA5-4196-A477-60A73C4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1C6-EEB3-4FBD-A5F3-67D555B6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C5E-EE9A-4E7A-BCEB-1555CEE6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C254-21B6-43F5-9B5A-A95E56FEE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ма само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0040" y="1268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«Компетентный подход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в воспитании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856800"/>
            <a:ext cx="82868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Самостоятельность – это качество человека, которое характеризуется сознательным выбором действия и решительностью в его осуществлении. Оно присуще в той или иной степени каждому из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9920" y="713880"/>
            <a:ext cx="52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самообразования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личности, которая приобрела бы в процессе развития способность самостоятельно строить свой вариант жизни, стать достойным человеком, дать возможность и создать условия для индивидуального выбора образа жизни, научить её делать этот выбор и находить способы 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вос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   Создание и поддержание условий для формирования личностных структур, обеспечивающих высокий уровень развития личностного потенциала и его реализации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  Вовлечение учащегося в систему дополнительного образования с целью обеспечения самореализации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Воспитание учащегося в духе демократии, свободы, личностного достоинства, уважения прав человека, гражданственности, патриот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1773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щность компетентного подхода в формировании личностных качест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дея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ение литературы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ение состояния избранной темы в практике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ектирование собственной деятельности по самообраз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о-смысловые компетенции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51" name="Picture 4" descr="C:\Users\Admin\Desktop\i (1).jpeg"/>
          <p:cNvPicPr/>
          <p:nvPr/>
        </p:nvPicPr>
        <p:blipFill>
          <a:blip r:embed="rId2"/>
          <a:stretch/>
        </p:blipFill>
        <p:spPr>
          <a:xfrm>
            <a:off x="2627280" y="2205000"/>
            <a:ext cx="470052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0"/>
            <a:ext cx="7632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культурные компетенц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Admin\Desktop\i.jpeg"/>
          <p:cNvPicPr/>
          <p:nvPr/>
        </p:nvPicPr>
        <p:blipFill>
          <a:blip r:embed="rId2"/>
          <a:stretch/>
        </p:blipFill>
        <p:spPr>
          <a:xfrm>
            <a:off x="2268360" y="1989000"/>
            <a:ext cx="537228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ознавательные компетенции 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6" descr="C:\Users\Admin\Desktop\img19.jpg"/>
          <p:cNvPicPr/>
          <p:nvPr/>
        </p:nvPicPr>
        <p:blipFill>
          <a:blip r:embed="rId2"/>
          <a:stretch/>
        </p:blipFill>
        <p:spPr>
          <a:xfrm>
            <a:off x="2484360" y="2133720"/>
            <a:ext cx="459108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Users\Admin\Desktop\i.jpeg"/>
          <p:cNvPicPr/>
          <p:nvPr/>
        </p:nvPicPr>
        <p:blipFill>
          <a:blip r:embed="rId2"/>
          <a:stretch/>
        </p:blipFill>
        <p:spPr>
          <a:xfrm>
            <a:off x="3635280" y="2708280"/>
            <a:ext cx="4945320" cy="370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компетен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компетенц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Admin\Desktop\charm.png"/>
          <p:cNvPicPr/>
          <p:nvPr/>
        </p:nvPicPr>
        <p:blipFill>
          <a:blip r:embed="rId2"/>
          <a:stretch/>
        </p:blipFill>
        <p:spPr>
          <a:xfrm>
            <a:off x="3635280" y="2924280"/>
            <a:ext cx="4403880" cy="354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Admin</cp:lastModifiedBy>
  <dcterms:modified xsi:type="dcterms:W3CDTF">2017-03-26T17:08:28Z</dcterms:modified>
  <cp:revision>56</cp:revision>
  <dc:subject/>
  <dc:title>Слайд 1</dc:title>
</cp:coreProperties>
</file>